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8AA2-6B68-4B74-B271-F01F88F52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7C3D-310E-46FE-A86E-3213044C9F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D074-A385-4227-8908-3550467F9B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CBF-0653-4F89-B242-5F5CD41151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1A97-252A-4E8D-9A44-D3A1732694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3BC2-B1B2-43AF-8A87-32A629344A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E656-6C72-40D6-A90E-0BF0793EFF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18FE-D63B-4C9C-8586-05C1F5426F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697F-A907-4F74-A03E-6A3BB1162B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0E08-8CE7-4D76-9905-CC2FF3B9B4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7052-BC65-4532-A5E6-18A27869A0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C0AB-66B2-45C6-A324-4BD4AE98C9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74A6-0D77-455C-9EB4-46B88BB119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8A5A-8F21-4B28-B0F6-9F4CFB95A7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0C45-6933-48B3-B3A6-193746B7ABD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08FC-EE50-47BF-804C-3D11F9E3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5690-7F82-46FF-A61C-9A69D4AF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4707-C196-41D5-B79B-7C271005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E697-D935-4115-9D5B-D542523E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A8C2-C13D-47BF-8758-2C44227F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0305-E63B-42BF-9B68-8FB1932D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7362-4A92-47B2-AC69-A47EF741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3564-1A2A-47AB-B7CA-BE3A57C4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AF5F-8759-4F30-999D-AFCC0BCA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CB69-90C9-4270-88FA-474D3AFF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ED51-1C5F-4174-9119-0500EAB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12D9-0E62-482A-ABBB-A21E2DCF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F468-84A6-4AF4-ABB2-8CE2B37A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E811-F841-4221-86F3-2B10C64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090F-0FAE-4A2C-8121-00E8FD6C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76FE-B2B2-4410-A7B1-49E2FFDB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8D39-BAA3-46D5-8A20-4B85AF97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93F7-E175-49B1-B792-F6884E87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049D-D049-47B6-AB08-4630342C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6C5A-6859-4C7C-9144-C09542E8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3840-D1C9-455B-B083-9DFD25A7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E426-9FE5-4BA0-88FB-752DE7FE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BA27-2548-439C-8938-D7C5208F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6E39-6C81-4B41-ACFF-3500527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2E3B-A768-4B8B-A0DE-241BC85927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0D19-D20E-4622-95E7-639D3C7ABA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Garamond"/>
              </a:rPr>
              <a:t>STYLES &amp; STRATEGI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260280"/>
            <a:ext cx="914400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. Cognitive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Repetition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11. Contextualis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Resourcing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12. Elabo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Translation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13. Transf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Grouping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14. Inferen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Note ta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De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Recomb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Imag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Auditory re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Keyw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79280" y="333360"/>
            <a:ext cx="849636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. Socioeffective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op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Question for clarif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50920" y="260280"/>
            <a:ext cx="8569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ommunication Strateg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voidance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yntactic or lexical avoid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honological avoid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opic avoid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260280"/>
            <a:ext cx="889308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2. Compensatory strateg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efabricated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de-swit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333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en Commandments for good language lear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981000"/>
          <a:ext cx="8209080" cy="6054840"/>
        </p:xfrm>
        <a:graphic>
          <a:graphicData uri="http://schemas.openxmlformats.org/drawingml/2006/table">
            <a:tbl>
              <a:tblPr/>
              <a:tblGrid>
                <a:gridCol w="720720"/>
                <a:gridCol w="3527280"/>
                <a:gridCol w="396108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acher’s Ver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arner’s Ver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wer inhibi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ear n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courage risk-ta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ve 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ild self-confid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lieve in yourse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velop intrinsic motiv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ize the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age in cooperative le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ve thy neighb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e right-brain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t the BIG pi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mote ambiguity tole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pe with the cha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actice intu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o with your hunch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cess error feed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ke mistakes work FOR yo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 personal go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 your own go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0" y="333360"/>
            <a:ext cx="91440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rocess, Style &amp; Strateg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cess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humans engage in association, transfer, generalisation, and attr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process is a characteristic of every hu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260280"/>
            <a:ext cx="88930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yle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consistent  and rather enduring tendencies o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eferences within an individu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differentiates you from someone e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260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rategies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specific methods of approaching a problem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ask, modes of operation for achieving 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articular end, planned designs for controll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nd manipulating certain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vary intraindivid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333360"/>
            <a:ext cx="871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Learning Sty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also known as cognitive 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used in handling a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”cognitive, affective, and physiological traits that are relatively stable indicators of how learners perceive, interact with, and respond to learning environment” (Keefe, 1979: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”a general predisposition, voluntary or not, toward processing information in a particular way” (Skehan 1991: 288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50920" y="333360"/>
            <a:ext cx="889308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A few significant contributors to successful second language acquis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field indepen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eld indepen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your ability to perceive a particular, relevant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tem or factor in a “field” of distracting i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) Field depen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 the tendency to be ‘dependent’ on the tot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el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 also known as field sensi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260280"/>
            <a:ext cx="8785440" cy="50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mbiguity toler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 person to tolerate ambiguity is free to entertain a number of innovative and creative possibil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flectivity and Impuls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mpulsive (quick or gambl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flective (calculativ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333360"/>
            <a:ext cx="85694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lassroom Sett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250920" y="549360"/>
            <a:ext cx="8642160" cy="57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Learning Strategi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etacognitive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dvance organis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irected atten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lective atten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lf-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unctional plan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lf-monito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elayed pro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lf-eval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3:56:46Z</dcterms:created>
  <dc:creator>Bharathi Kutty</dc:creator>
  <dc:description/>
  <dc:language>en-US</dc:language>
  <cp:lastModifiedBy>Buckrie</cp:lastModifiedBy>
  <dcterms:modified xsi:type="dcterms:W3CDTF">2011-12-16T08:20:53Z</dcterms:modified>
  <cp:revision>2</cp:revision>
  <dc:subject/>
  <dc:title>STYLES &amp; STRATEGIES</dc:title>
</cp:coreProperties>
</file>